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wind.wav" ContentType="audio/x-wav"/>
  <Override PartName="/ppt/media/image16.jpeg" ContentType="image/jpeg"/>
  <Override PartName="/ppt/media/chimes.wav" ContentType="audio/x-wav"/>
  <Override PartName="/ppt/media/image7.jpeg" ContentType="image/jpeg"/>
  <Override PartName="/ppt/media/image6.jpeg" ContentType="image/jpeg"/>
  <Override PartName="/ppt/media/applause.wav" ContentType="audio/x-wav"/>
  <Override PartName="/ppt/media/image5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type.wav" ContentType="audio/x-wav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13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5C82-A14D-467A-A173-45A08AE2A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068E-EA40-4CAD-926F-DEE4563CB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B8CF-4379-4FE5-8E1D-A6ED4C6AE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F7C3-35AF-401F-B068-FADE4FD3D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128D-A2BF-43E8-9265-3B2C3C8F2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CA4E-7599-4B80-AAAE-F060D6FD7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6B11-E58E-4823-B2B2-4C981A9F2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027C-C75D-4DB5-90D8-42042A048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E352-54EA-48BE-875E-B40531295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A667-3934-409E-8094-41630D13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40F4-2884-4219-A90E-EE7113B6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A8F1-1204-4E2A-A05B-55F286CB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D2E2B-5F9A-4EDC-8324-E577A3983B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audio" Target="../media/wind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5.jpeg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Administrator\Desktop\下册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0" y="4303800"/>
            <a:ext cx="9144000" cy="2349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4182"/>
                </a:solidFill>
                <a:latin typeface="Calibri"/>
              </a:rPr>
              <a:t>Project 1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4400" spc="-1" strike="noStrike">
                <a:solidFill>
                  <a:srgbClr val="004182"/>
                </a:solidFill>
                <a:latin typeface="Calibri"/>
              </a:rPr>
              <a:t> My pup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692360" y="3284640"/>
            <a:ext cx="60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Let’s make a pupp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2268360" y="476280"/>
            <a:ext cx="5183280" cy="3257280"/>
            <a:chOff x="2268360" y="476280"/>
            <a:chExt cx="5183280" cy="3257280"/>
          </a:xfrm>
        </p:grpSpPr>
        <p:sp>
          <p:nvSpPr>
            <p:cNvPr id="96" name=""/>
            <p:cNvSpPr txBox="1"/>
            <p:nvPr/>
          </p:nvSpPr>
          <p:spPr>
            <a:xfrm>
              <a:off x="2268360" y="476280"/>
              <a:ext cx="4556160" cy="2521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53966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Show them</a:t>
              </a:r>
              <a:endPara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443640" y="3213000"/>
              <a:ext cx="100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展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340000" y="404640"/>
            <a:ext cx="6408720" cy="58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Arial"/>
              </a:rPr>
              <a:t>Chan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ppy, puppy, your pupp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your pupp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 ,yes , yes, it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, open, open the do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t, eat, eat the hot do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eat the hot do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of! woof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859280" y="1844640"/>
            <a:ext cx="2745000" cy="138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Goodby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1557360"/>
            <a:ext cx="7704000" cy="40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目标导航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词汇：四会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open, door, window, close, book, run, eat, talk, milk, pencil, pen, ruler, box, bird, desk, chai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三会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lackboard, stand up, sit down, shout, sleep, schoolbag, crayon, pencil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交际用语：能听懂、会说、会读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tand up. Sit down. Come in. Please…I’m sorry. What’s this? It’s a … Would you like…? Look at the blackboard. Don’t…Where’s…?It’s…Is this/that…? Yes, it is./ No, it isn’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55640" y="981000"/>
            <a:ext cx="5616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Is this your 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Yes, it is./No, it isn’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380360" y="3573360"/>
            <a:ext cx="1409760" cy="2257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867280" y="3429000"/>
            <a:ext cx="1600200" cy="2390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067280" y="3500280"/>
            <a:ext cx="1819080" cy="2238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24000" y="2708280"/>
            <a:ext cx="2209680" cy="1981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2556000" y="3573360"/>
            <a:ext cx="159048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5076720" y="2492280"/>
            <a:ext cx="2089080" cy="1324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2627280" y="2565360"/>
            <a:ext cx="230508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64000" y="3645000"/>
            <a:ext cx="2995920" cy="2617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 flipH="1" rot="21517800">
            <a:off x="250920" y="404280"/>
            <a:ext cx="1979640" cy="1353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268360" y="260280"/>
            <a:ext cx="5328000" cy="820800"/>
          </a:xfrm>
          <a:prstGeom prst="wedgeRoundRectCallout">
            <a:avLst>
              <a:gd name="adj1" fmla="val -44425"/>
              <a:gd name="adj2" fmla="val 7630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3280" y="333360"/>
            <a:ext cx="45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Where’s the bi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68360" y="260280"/>
            <a:ext cx="5328000" cy="820800"/>
          </a:xfrm>
          <a:prstGeom prst="wedgeRoundRectCallout">
            <a:avLst>
              <a:gd name="adj1" fmla="val -44425"/>
              <a:gd name="adj2" fmla="val 7630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843280" y="333360"/>
            <a:ext cx="45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Where’s the bi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68360" y="260280"/>
            <a:ext cx="5328000" cy="820800"/>
          </a:xfrm>
          <a:prstGeom prst="wedgeRoundRectCallout">
            <a:avLst>
              <a:gd name="adj1" fmla="val -44425"/>
              <a:gd name="adj2" fmla="val 7630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43280" y="333360"/>
            <a:ext cx="45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Where’s the bi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2268360" y="260280"/>
            <a:ext cx="5328000" cy="820800"/>
            <a:chOff x="2268360" y="260280"/>
            <a:chExt cx="5328000" cy="820800"/>
          </a:xfrm>
        </p:grpSpPr>
        <p:sp>
          <p:nvSpPr>
            <p:cNvPr id="61" name=""/>
            <p:cNvSpPr/>
            <p:nvPr/>
          </p:nvSpPr>
          <p:spPr>
            <a:xfrm>
              <a:off x="2268360" y="260280"/>
              <a:ext cx="5328000" cy="820800"/>
            </a:xfrm>
            <a:prstGeom prst="wedgeRoundRectCallout">
              <a:avLst>
                <a:gd name="adj1" fmla="val -44425"/>
                <a:gd name="adj2" fmla="val 76305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843280" y="333360"/>
              <a:ext cx="453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99"/>
                  </a:solidFill>
                  <a:latin typeface="Arial"/>
                </a:rPr>
                <a:t>Where’s the bird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012000" y="1484280"/>
            <a:ext cx="2698560" cy="1984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2700360" y="1989000"/>
            <a:ext cx="3081240" cy="240984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0" y="3781440"/>
            <a:ext cx="3889440" cy="3076560"/>
            <a:chOff x="0" y="3781440"/>
            <a:chExt cx="3889440" cy="3076560"/>
          </a:xfrm>
        </p:grpSpPr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0" y="3781440"/>
              <a:ext cx="3889440" cy="307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 flipH="1" rot="21518400">
              <a:off x="1182600" y="4369680"/>
              <a:ext cx="866880" cy="59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4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908000" y="2637000"/>
            <a:ext cx="2067120" cy="26715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427640" y="314172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my pu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6227640" y="2637000"/>
            <a:ext cx="1224000" cy="576000"/>
            <a:chOff x="6227640" y="2637000"/>
            <a:chExt cx="1224000" cy="576000"/>
          </a:xfrm>
        </p:grpSpPr>
        <p:sp>
          <p:nvSpPr>
            <p:cNvPr id="72" name=""/>
            <p:cNvSpPr/>
            <p:nvPr/>
          </p:nvSpPr>
          <p:spPr>
            <a:xfrm>
              <a:off x="6227640" y="2637000"/>
              <a:ext cx="1224000" cy="576000"/>
            </a:xfrm>
            <a:prstGeom prst="wedgeRectCallout">
              <a:avLst>
                <a:gd name="adj1" fmla="val -58819"/>
                <a:gd name="adj2" fmla="val 7011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227640" y="270828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Arial"/>
                </a:rPr>
                <a:t>小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 txBox="1"/>
          <p:nvPr/>
        </p:nvSpPr>
        <p:spPr>
          <a:xfrm>
            <a:off x="7164360" y="6308640"/>
            <a:ext cx="160020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114880" y="3573360"/>
            <a:ext cx="4029120" cy="3095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156360" y="476280"/>
            <a:ext cx="2987640" cy="23544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1116000" y="3402000"/>
            <a:ext cx="3340080" cy="3456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3348000" y="1557360"/>
            <a:ext cx="1616040" cy="20890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24000" y="476280"/>
            <a:ext cx="56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Where’s my pupp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308720" y="1268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84720" y="4724280"/>
            <a:ext cx="10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451640" y="5877000"/>
            <a:ext cx="16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un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5516640"/>
            <a:ext cx="14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beh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619280" y="5950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148360" y="2421000"/>
            <a:ext cx="3527280" cy="26067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042920" y="476280"/>
            <a:ext cx="727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仔细观察图片，里面有哪些东西？他们在哪里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和你的同桌交流一下，选出正确答案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43280" y="112536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.Where’s my bear?(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43280" y="170028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2.Where’s my dress?(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2997360"/>
            <a:ext cx="5976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t’s behind the do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t’s on the b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t’s under the des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t’s in the wardrobe(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衣橱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885080" y="10526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885080" y="16286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1T06:40:19Z</dcterms:created>
  <dc:creator/>
  <dc:description/>
  <cp:keywords/>
  <dc:language>en-US</dc:language>
  <cp:lastModifiedBy>微软用户</cp:lastModifiedBy>
  <dcterms:modified xsi:type="dcterms:W3CDTF">2013-11-28T00:38:02Z</dcterms:modified>
  <cp:revision>11</cp:revision>
  <dc:subject/>
  <dc:title>幻灯片 1</dc:title>
</cp:coreProperties>
</file>